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6ACD4-B1C2-43BD-8527-2C4D0ED9E470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66452-02C8-412D-ABA7-DE704C4EAFA0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0E564-3A2A-4898-9C1C-9FB9D096DC0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F7AB4-270D-4BDD-A49A-0A14843E95B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A3952-7BF3-48C7-BDD4-557CF8313FC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AACF5-B9F0-40D4-8426-A89E933F89B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87943-5953-40C8-9EFF-B17F9FF696BF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31B-5E3E-4FC5-9965-035F6C96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758-DB84-420C-B365-69C82806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CB1-39A5-44B8-BABE-D40CB708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7EA-9795-4193-BE80-8F7CF6E1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636-908C-471F-97B2-C3A43124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6B5-A15E-477D-9734-4E8BA1C0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4B9-7DF8-4613-B2F6-973C34D1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EC3-67FD-46CE-9005-DFD4A3F5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43CF-66A7-4716-9F24-5A5E0A9B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ED6-841E-477E-857D-C288CC51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A02E-A0D2-4947-88B8-D0DB3731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FAD-B4E0-4953-AA2C-FAD4B51B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C94D2-6A06-454F-95A0-FB6438949D35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екабрь, 2019 г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495080" y="136440"/>
            <a:ext cx="169704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2" name="Рисунок 14" descr=""/>
          <p:cNvPicPr/>
          <p:nvPr/>
        </p:nvPicPr>
        <p:blipFill>
          <a:blip r:embed="rId1"/>
          <a:stretch/>
        </p:blipFill>
        <p:spPr>
          <a:xfrm>
            <a:off x="9997920" y="136440"/>
            <a:ext cx="21942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339560" y="136440"/>
            <a:ext cx="1852560" cy="144000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225520"/>
            <a:ext cx="84805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10395000" y="136440"/>
            <a:ext cx="179712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0" name="Группа 13"/>
          <p:cNvGrpSpPr/>
          <p:nvPr/>
        </p:nvGrpSpPr>
        <p:grpSpPr>
          <a:xfrm>
            <a:off x="654120" y="1501920"/>
            <a:ext cx="10101240" cy="4957560"/>
            <a:chOff x="654120" y="1501920"/>
            <a:chExt cx="10101240" cy="4957560"/>
          </a:xfrm>
        </p:grpSpPr>
        <p:pic>
          <p:nvPicPr>
            <p:cNvPr id="61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50192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5"/>
            <p:cNvSpPr/>
            <p:nvPr/>
          </p:nvSpPr>
          <p:spPr>
            <a:xfrm>
              <a:off x="834120" y="224892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1253880" y="365544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4" name="TextBox 12"/>
            <p:cNvSpPr/>
            <p:nvPr/>
          </p:nvSpPr>
          <p:spPr>
            <a:xfrm>
              <a:off x="871920" y="518472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6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6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9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0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5"/>
            <p:cNvSpPr/>
            <p:nvPr/>
          </p:nvSpPr>
          <p:spPr>
            <a:xfrm>
              <a:off x="871920" y="278388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2" name="TextBox 7"/>
            <p:cNvSpPr/>
            <p:nvPr/>
          </p:nvSpPr>
          <p:spPr>
            <a:xfrm>
              <a:off x="1125720" y="400500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3" name="TextBox 12"/>
            <p:cNvSpPr/>
            <p:nvPr/>
          </p:nvSpPr>
          <p:spPr>
            <a:xfrm>
              <a:off x="871920" y="534636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4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5" name="Рисунок 11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6"/>
          <p:cNvSpPr/>
          <p:nvPr/>
        </p:nvSpPr>
        <p:spPr>
          <a:xfrm>
            <a:off x="1054080" y="278460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1425600" y="40449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1054080" y="5308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0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1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4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85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6" name="Рисунок 14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. организация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де произведено прерывани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660240" y="2805120"/>
          <a:ext cx="108586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13360"/>
                <a:gridCol w="530280"/>
                <a:gridCol w="909360"/>
                <a:gridCol w="1060560"/>
                <a:gridCol w="835200"/>
                <a:gridCol w="833400"/>
                <a:gridCol w="833400"/>
                <a:gridCol w="833400"/>
                <a:gridCol w="8334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89" name="Прямоугольная выноска 2"/>
          <p:cNvSpPr/>
          <p:nvPr/>
        </p:nvSpPr>
        <p:spPr>
          <a:xfrm>
            <a:off x="5246640" y="5254560"/>
            <a:ext cx="2435400" cy="142560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Прямоугольная выноска 4"/>
          <p:cNvSpPr/>
          <p:nvPr/>
        </p:nvSpPr>
        <p:spPr>
          <a:xfrm>
            <a:off x="9248760" y="382896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1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"/>
          <p:cNvSpPr/>
          <p:nvPr/>
        </p:nvSpPr>
        <p:spPr>
          <a:xfrm>
            <a:off x="1523880" y="48276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85800" y="19033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75b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</a:tbl>
          </a:graphicData>
        </a:graphic>
      </p:graphicFrame>
      <p:sp>
        <p:nvSpPr>
          <p:cNvPr id="95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Прямоугольная выноска 4"/>
          <p:cNvSpPr/>
          <p:nvPr/>
        </p:nvSpPr>
        <p:spPr>
          <a:xfrm>
            <a:off x="9515520" y="3936960"/>
            <a:ext cx="2281320" cy="1262160"/>
          </a:xfrm>
          <a:prstGeom prst="wedgeRectCallout">
            <a:avLst>
              <a:gd name="adj1" fmla="val -94527"/>
              <a:gd name="adj2" fmla="val 30166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5-конечная звезда 5"/>
          <p:cNvSpPr/>
          <p:nvPr/>
        </p:nvSpPr>
        <p:spPr>
          <a:xfrm>
            <a:off x="1771560" y="5707080"/>
            <a:ext cx="457200" cy="458640"/>
          </a:xfrm>
          <a:custGeom>
            <a:avLst/>
            <a:gdLst/>
            <a:ahLst/>
            <a:rect l="l" t="t" r="r" b="b"/>
            <a:pathLst>
              <a:path w="457200" h="457579">
                <a:moveTo>
                  <a:pt x="0" y="174779"/>
                </a:moveTo>
                <a:lnTo>
                  <a:pt x="174636" y="174780"/>
                </a:lnTo>
                <a:lnTo>
                  <a:pt x="228600" y="0"/>
                </a:lnTo>
                <a:lnTo>
                  <a:pt x="282564" y="174780"/>
                </a:lnTo>
                <a:lnTo>
                  <a:pt x="457200" y="174779"/>
                </a:lnTo>
                <a:lnTo>
                  <a:pt x="315916" y="282798"/>
                </a:lnTo>
                <a:lnTo>
                  <a:pt x="369882" y="457578"/>
                </a:lnTo>
                <a:lnTo>
                  <a:pt x="228600" y="349557"/>
                </a:lnTo>
                <a:lnTo>
                  <a:pt x="87318" y="457578"/>
                </a:lnTo>
                <a:lnTo>
                  <a:pt x="141284" y="282798"/>
                </a:lnTo>
                <a:lnTo>
                  <a:pt x="0" y="174779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03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19-12-09T14:33:21Z</dcterms:modified>
  <cp:revision>102</cp:revision>
  <dc:subject/>
  <dc:title>Презентация PowerPoint</dc:title>
</cp:coreProperties>
</file>